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373-DF33-4A9A-9C0D-58D721B1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CD1-94CE-4481-91D6-3C1026C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858-B4DC-4103-908A-15DB500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1C9-8EF2-48FD-BABB-F5DC8DC6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ED8-E73E-4B1B-8020-EDB32C81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C29-2856-481A-A13A-D9FBB6E7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CDB-C708-443A-A8F6-B4ED656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5FB-3BFB-4B3C-8BA3-BE152BDA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416-B0AA-457B-91E0-F44462E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4BD-A8FB-4BCD-A398-8CBF6A3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FB5-CB06-4F28-876E-CC79255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185-DD05-4654-AC57-C2A8482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A8C-1A6E-4F83-B9C1-A161EED9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98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verview about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sign o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77" t="13118" r="2155" b="42283"/>
          <a:stretch/>
        </p:blipFill>
        <p:spPr>
          <a:xfrm>
            <a:off x="1066680" y="1295280"/>
            <a:ext cx="70106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3886" t="51020" r="16330" b="24171"/>
          <a:stretch/>
        </p:blipFill>
        <p:spPr>
          <a:xfrm>
            <a:off x="289548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44906" t="75842" r="16330" b="14507"/>
          <a:stretch/>
        </p:blipFill>
        <p:spPr>
          <a:xfrm>
            <a:off x="4724280" y="4800600"/>
            <a:ext cx="2895840" cy="45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80988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1828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4724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257800"/>
            <a:ext cx="70106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5834" r="0" b="49856"/>
          <a:stretch/>
        </p:blipFill>
        <p:spPr>
          <a:xfrm>
            <a:off x="914400" y="152388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55360" y="3962520"/>
            <a:ext cx="7479000" cy="1252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adjusted estimate that controls for conf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mask the fact that the E-D relationship differ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ategories of a control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1066680"/>
            <a:ext cx="243864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080" y="3086280"/>
            <a:ext cx="34099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vailable in th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239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1804" r="0" b="8224"/>
          <a:stretch/>
        </p:blipFill>
        <p:spPr>
          <a:xfrm>
            <a:off x="609480" y="15238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6:35Z</dcterms:modified>
  <cp:revision>111</cp:revision>
  <dc:subject/>
  <dc:title>The Art in the State of the Art</dc:title>
</cp:coreProperties>
</file>